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6EC2-7D20-498D-842F-76EDE1FE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CB05-BE07-40CB-BC69-80462362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5609-2FA9-4B45-BDB7-B7DD9104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A3E-1823-460E-8314-22F7C173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174-C0BC-4DB7-AF91-28C2C819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4F3-13A8-4F43-A8CE-39BD1620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466-667F-450E-85A7-F39FF822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9A24-BF4C-4B12-BD18-38331B52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D5C-A758-454B-8E5A-59F0D77A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A17D-86CF-4869-B71F-95891515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DC6-676C-4D6A-B8F2-6965BF14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D97-38B3-4D38-B712-D2CDAC1D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BE10-4937-45B1-8BC7-7B87B8DAF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58560" y="2781000"/>
            <a:ext cx="6707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rea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și administrare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ui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Propunere pentru un nou subi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481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ubli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6553080" cy="5241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292720" y="4221000"/>
            <a:ext cx="2519280" cy="935280"/>
          </a:xfrm>
          <a:prstGeom prst="wedgeRoundRectCallout">
            <a:avLst>
              <a:gd name="adj1" fmla="val -12824"/>
              <a:gd name="adj2" fmla="val 1430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ubli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agina de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6264360" cy="5011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87280" y="4797360"/>
            <a:ext cx="1944720" cy="863640"/>
          </a:xfrm>
          <a:prstGeom prst="wedgeRoundRectCallout">
            <a:avLst>
              <a:gd name="adj1" fmla="val 80120"/>
              <a:gd name="adj2" fmla="val 215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ubiectul de disc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Creare cont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6408720" cy="5127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9280" y="2781360"/>
            <a:ext cx="1871640" cy="792000"/>
          </a:xfrm>
          <a:prstGeom prst="wedgeRoundRectCallout">
            <a:avLst>
              <a:gd name="adj1" fmla="val 95037"/>
              <a:gd name="adj2" fmla="val -2635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reare conturi pentru memb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Creare cont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6192720" cy="4952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84360" y="3573360"/>
            <a:ext cx="1871640" cy="935280"/>
          </a:xfrm>
          <a:prstGeom prst="wedgeRoundRectCallout">
            <a:avLst>
              <a:gd name="adj1" fmla="val 109712"/>
              <a:gd name="adj2" fmla="val -2775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reare 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Creare cont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6480000" cy="5184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124000" y="4149720"/>
            <a:ext cx="1943280" cy="1655640"/>
          </a:xfrm>
          <a:prstGeom prst="wedgeRoundRectCallout">
            <a:avLst>
              <a:gd name="adj1" fmla="val 91750"/>
              <a:gd name="adj2" fmla="val -31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ifaţi pentru ca membrul sa primeasca datele de acces pe 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Un exemp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5977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agina unui memb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19280" y="1155600"/>
            <a:ext cx="71280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923760"/>
            <a:ext cx="7417080" cy="593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64000" y="18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765000"/>
            <a:ext cx="2592360" cy="1152720"/>
          </a:xfrm>
          <a:prstGeom prst="wedgeRoundRectCallout">
            <a:avLst>
              <a:gd name="adj1" fmla="val -84967"/>
              <a:gd name="adj2" fmla="val 22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ccesati pagina www.21class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80000" y="2852640"/>
            <a:ext cx="2376720" cy="1440000"/>
          </a:xfrm>
          <a:prstGeom prst="wedgeRoundRectCallout">
            <a:avLst>
              <a:gd name="adj1" fmla="val -21277"/>
              <a:gd name="adj2" fmla="val -737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pasati butonul Sign up for free pentru a crea propriul b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Înregistr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6840720" cy="547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3213000"/>
            <a:ext cx="1655640" cy="863640"/>
          </a:xfrm>
          <a:prstGeom prst="wedgeRoundRectCallout">
            <a:avLst>
              <a:gd name="adj1" fmla="val 92759"/>
              <a:gd name="adj2" fmla="val -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Completaţi datele cer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437000"/>
            <a:ext cx="1655640" cy="936720"/>
          </a:xfrm>
          <a:prstGeom prst="wedgeRoundRectCallout">
            <a:avLst>
              <a:gd name="adj1" fmla="val 103018"/>
              <a:gd name="adj2" fmla="val -1069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Numele blog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202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Înregistrar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129440" cy="570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6000" y="5229360"/>
            <a:ext cx="1368360" cy="504720"/>
          </a:xfrm>
          <a:prstGeom prst="wedgeRoundRectCallout">
            <a:avLst>
              <a:gd name="adj1" fmla="val 106379"/>
              <a:gd name="adj2" fmla="val -4056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lectaţ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365720"/>
            <a:ext cx="2016000" cy="647640"/>
          </a:xfrm>
          <a:prstGeom prst="wedgeRoundRectCallout">
            <a:avLst>
              <a:gd name="adj1" fmla="val 88111"/>
              <a:gd name="adj2" fmla="val -397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troduceti codul de secur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805360"/>
            <a:ext cx="2305080" cy="649440"/>
          </a:xfrm>
          <a:prstGeom prst="wedgeRoundRectCallout">
            <a:avLst>
              <a:gd name="adj1" fmla="val 100759"/>
              <a:gd name="adj2" fmla="val -6368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pasati pentru a merge mai depa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555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Înregistrare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129440" cy="5703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2421000"/>
            <a:ext cx="1584360" cy="936720"/>
          </a:xfrm>
          <a:prstGeom prst="wedgeRoundRectCallout">
            <a:avLst>
              <a:gd name="adj1" fmla="val 68435"/>
              <a:gd name="adj2" fmla="val -367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firmarea înregistră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Înregistrar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264360" cy="5011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5084640"/>
            <a:ext cx="1800000" cy="792360"/>
          </a:xfrm>
          <a:prstGeom prst="wedgeRoundRectCallout">
            <a:avLst>
              <a:gd name="adj1" fmla="val 88888"/>
              <a:gd name="adj2" fmla="val -19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păsaţi pentru contin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Pagina de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12980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ezentare b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624720" cy="5299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8000" y="2492280"/>
            <a:ext cx="1079280" cy="649440"/>
          </a:xfrm>
          <a:prstGeom prst="wedgeRoundRectCallout">
            <a:avLst>
              <a:gd name="adj1" fmla="val 71615"/>
              <a:gd name="adj2" fmla="val -385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gina d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357720"/>
            <a:ext cx="1403280" cy="718920"/>
          </a:xfrm>
          <a:prstGeom prst="wedgeRoundRectCallout">
            <a:avLst>
              <a:gd name="adj1" fmla="val 95134"/>
              <a:gd name="adj2" fmla="val -1482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Gestionare cont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4076640"/>
            <a:ext cx="1763640" cy="720720"/>
          </a:xfrm>
          <a:prstGeom prst="wedgeRoundRectCallout">
            <a:avLst>
              <a:gd name="adj1" fmla="val -4365"/>
              <a:gd name="adj2" fmla="val -250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rsonalizare b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2781360"/>
            <a:ext cx="1800000" cy="792000"/>
          </a:xfrm>
          <a:prstGeom prst="wedgeRoundRectCallout">
            <a:avLst>
              <a:gd name="adj1" fmla="val -65166"/>
              <a:gd name="adj2" fmla="val -6081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izualizare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ostarea unui subi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6264360" cy="5011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9280" y="2205000"/>
            <a:ext cx="1584360" cy="647640"/>
          </a:xfrm>
          <a:prstGeom prst="wedgeRoundRectCallout">
            <a:avLst>
              <a:gd name="adj1" fmla="val 79958"/>
              <a:gd name="adj2" fmla="val 583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ditarea unui subi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5:30:10Z</dcterms:created>
  <dc:creator>Emy</dc:creator>
  <dc:description/>
  <dc:language>en-US</dc:language>
  <cp:lastModifiedBy>Emy</cp:lastModifiedBy>
  <dcterms:modified xsi:type="dcterms:W3CDTF">2009-02-01T16:59:23Z</dcterms:modified>
  <cp:revision>5</cp:revision>
  <dc:subject/>
  <dc:title>Tutorial</dc:title>
</cp:coreProperties>
</file>